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5.png" ContentType="image/pn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chimes.wav" ContentType="audio/x-wav"/>
  <Override PartName="/ppt/media/image7.jpeg" ContentType="image/jpeg"/>
  <Override PartName="/ppt/media/image11.png" ContentType="image/png"/>
  <Override PartName="/ppt/media/image12.jpeg" ContentType="image/jpeg"/>
  <Override PartName="/ppt/media/image10.wmf" ContentType="image/x-wmf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4DC3-8AA9-422C-BC65-A27EE23A35F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04D7-9639-4A41-909F-C08E4526E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1010-C3E2-4117-A6D6-9F4D57E5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3067-A21A-476C-B1E9-AAAEC77B5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866D-B735-4142-BE2A-E84225846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5267-B956-4CA7-B83F-95C90976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7E2E-8F55-47C5-B8E8-C06F99EE7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0E19-3B50-4890-9388-D7B914E1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250D-4AB7-4572-A061-4F47D26A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E682-FE6C-4D7A-B296-F31C3878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2DEE-FE20-4935-ADAA-B8DFA160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FD37-F82C-46F5-A19E-18161086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16D3-3679-49CF-B02F-53437647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1512-9CE1-4805-9C56-3AB48862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8F2B-0A5C-4E77-B412-ABA9A19A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B3D4-5D5C-4FEB-AE3C-A1B4EA4A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5405-1DB8-40A8-A18A-F8726B12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2BE6-4872-4FFA-832F-2BFA6A811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F3B4-1395-4D54-93AA-95C44B8E6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7EB3A-E49E-40D2-9A66-F95F18F33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2A2A7-2F1B-4510-A8F4-5BEE95B7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F008B-2BCE-408E-AEEA-A471BC10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2A20-72F4-43B0-AE8D-3FBB028E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EA37D-F4F7-498F-9061-EEA73036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774AE-BCD5-4CDD-A11B-DFEFDDC1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D4EFA-8E67-445F-81F4-3EA20244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7BE5F-E28C-4200-A13C-23C7B3A6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0F1A4-1DD3-47A9-8C3F-F526CEA9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D836B-A517-4AC5-A043-3C4C7A5E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50A8C-B2D8-43A3-BA59-FE4AA98E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47D27-44C0-444E-B1FB-BA187D568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7593E-35CE-426C-99E9-76396298E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C6E4-F455-4F65-B415-5EA9D6F1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BADB-5D36-4CF8-84C8-CA2E20A9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C959-73AA-4D62-ACE7-EED0178C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FF6C-4403-461C-A7D5-EEAF8062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BA2C-4A10-42D2-84CE-43314F65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15084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e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55640" y="1566360"/>
            <a:ext cx="8075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32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32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32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32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32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32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32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32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703560" y="613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18920" y="6130440"/>
            <a:ext cx="4753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78920" y="6135840"/>
            <a:ext cx="684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64A7-A7A2-435E-99CE-E805BCEBCC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1160" y="1983960"/>
            <a:ext cx="899964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85928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6249960" y="6381720"/>
            <a:ext cx="13032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766764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577C-16E0-4D78-BF0B-8723B857C2D5}" type="slidenum">
              <a:rPr b="0" lang="zh-CN" sz="8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76360" y="2706480"/>
            <a:ext cx="511344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485928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8"/>
          </p:nvPr>
        </p:nvSpPr>
        <p:spPr>
          <a:xfrm>
            <a:off x="6249960" y="6381720"/>
            <a:ext cx="13032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9"/>
          </p:nvPr>
        </p:nvSpPr>
        <p:spPr>
          <a:xfrm>
            <a:off x="766764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0CA7-B206-4826-82DA-F90AC821AD67}" type="slidenum"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7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763640" y="836640"/>
            <a:ext cx="5400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幼圆"/>
              </a:rPr>
              <a:t>面包发霉了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幼圆"/>
              <a:ea typeface="幼圆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124000" y="2781360"/>
            <a:ext cx="6804000" cy="4076640"/>
            <a:chOff x="2124000" y="2781360"/>
            <a:chExt cx="6804000" cy="407664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2124000" y="2781360"/>
              <a:ext cx="3924360" cy="382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 txBox="1"/>
            <p:nvPr/>
          </p:nvSpPr>
          <p:spPr>
            <a:xfrm>
              <a:off x="5508720" y="6568920"/>
              <a:ext cx="34192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1" strike="noStrike">
                  <a:ln w="0">
                    <a:noFill/>
                  </a:ln>
                  <a:solidFill>
                    <a:srgbClr val="800080"/>
                  </a:soli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整理者：建德市新安江第一小学 秦爱军</a:t>
              </a:r>
              <a:endParaRPr b="0" lang="en-US" sz="14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95280" y="98100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观察发霉的面包</a:t>
            </a:r>
            <a:endParaRPr b="0" lang="en-US" sz="36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1773360"/>
            <a:ext cx="71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●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直接观察</a:t>
            </a:r>
            <a:endParaRPr b="0" lang="en-US" sz="3200" spc="-1" strike="noStrike">
              <a:solidFill>
                <a:srgbClr val="000032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9640" y="2449440"/>
            <a:ext cx="3168720" cy="2536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500720" y="2538360"/>
            <a:ext cx="4248000" cy="25542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826920" y="5445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原来面包上长了许多霉菌。</a:t>
            </a:r>
            <a:endParaRPr b="0" lang="en-US" sz="3600" spc="-1" strike="noStrike">
              <a:solidFill>
                <a:srgbClr val="00003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18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ebde1"/>
                </a:solidFill>
                <a:latin typeface="Tahoma"/>
              </a:rPr>
              <a:t>（</a:t>
            </a:r>
            <a:r>
              <a:rPr b="1" lang="zh-CN" sz="3200" spc="-1" strike="noStrike">
                <a:solidFill>
                  <a:srgbClr val="1ebde1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1ebde1"/>
                </a:solidFill>
                <a:latin typeface="Tahoma"/>
              </a:rPr>
              <a:t>）、用放大镜和显微镜观察</a:t>
            </a:r>
            <a:endParaRPr b="0" lang="en-US" sz="32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119700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9640" y="1268280"/>
            <a:ext cx="3311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5148360" cy="41180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292720" y="1052640"/>
            <a:ext cx="3263760" cy="45370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84360" y="5300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霉菌</a:t>
            </a:r>
            <a:endParaRPr b="0" lang="en-US" sz="36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77080" y="56610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菌丝</a:t>
            </a:r>
            <a:endParaRPr b="0" lang="en-US" sz="36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988760" y="1197000"/>
            <a:ext cx="11552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ahoma"/>
              </a:rPr>
              <a:t>孢子囊</a:t>
            </a:r>
            <a:endParaRPr b="0" lang="en-US" sz="32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88000" y="1762200"/>
            <a:ext cx="20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32440" y="4941720"/>
            <a:ext cx="459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192800" y="5013360"/>
            <a:ext cx="459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524720" y="4797360"/>
            <a:ext cx="0" cy="100800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1762200"/>
            <a:ext cx="194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59640" y="183348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732360" y="1916280"/>
            <a:ext cx="1871640" cy="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6237360"/>
            <a:ext cx="64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我们还在什么物品上看到过霉菌</a:t>
            </a:r>
            <a:r>
              <a:rPr b="0" lang="zh-CN" sz="3200" spc="-1" strike="noStrike">
                <a:solidFill>
                  <a:srgbClr val="cc0000"/>
                </a:solidFill>
                <a:latin typeface="Tahoma"/>
              </a:rPr>
              <a:t>？</a:t>
            </a:r>
            <a:endParaRPr b="0" lang="en-US" sz="3200" spc="-1" strike="noStrike">
              <a:solidFill>
                <a:srgbClr val="00003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50920" y="33336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ahoma"/>
              </a:rPr>
              <a:t>（</a:t>
            </a:r>
            <a:r>
              <a:rPr b="1" lang="zh-CN" sz="3600" spc="-1" strike="noStrike">
                <a:solidFill>
                  <a:srgbClr val="ff00ff"/>
                </a:solidFill>
                <a:latin typeface="Tahoma"/>
              </a:rPr>
              <a:t>3</a:t>
            </a:r>
            <a:r>
              <a:rPr b="1" lang="zh-CN" sz="3600" spc="-1" strike="noStrike">
                <a:solidFill>
                  <a:srgbClr val="ff00ff"/>
                </a:solidFill>
                <a:latin typeface="Tahoma"/>
              </a:rPr>
              <a:t>）、哪一块面包上的霉菌生长得快</a:t>
            </a:r>
            <a:endParaRPr b="0" lang="en-US" sz="36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1125360"/>
            <a:ext cx="81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实验：（四块面包，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用牙签在每块面包上放一些霉菌</a:t>
            </a: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）</a:t>
            </a:r>
            <a:endParaRPr b="0" lang="en-US" sz="36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2637000"/>
            <a:ext cx="856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●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使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第一块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面包保持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干燥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，在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第二块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面包上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滴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10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滴水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，分别装在两个塑料袋里，用线扎紧袋口后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放在桌上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32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195640" y="4437000"/>
            <a:ext cx="2303280" cy="22161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6372360" y="4292640"/>
            <a:ext cx="2143080" cy="2305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112536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●</a:t>
            </a: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在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第三块</a:t>
            </a: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面包和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第四块</a:t>
            </a: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面包上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都滴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10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滴水</a:t>
            </a: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，也分别装在两个塑料袋里，并扎紧袋口。然后，把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第三块</a:t>
            </a: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面包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放进冰箱</a:t>
            </a: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，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第四块</a:t>
            </a: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面包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放到温度较高的地方</a:t>
            </a: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。</a:t>
            </a:r>
            <a:endParaRPr b="0" lang="en-US" sz="3600" spc="-1" strike="noStrike">
              <a:solidFill>
                <a:srgbClr val="000032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268360" y="3789360"/>
            <a:ext cx="6234120" cy="3068640"/>
            <a:chOff x="2268360" y="3789360"/>
            <a:chExt cx="6234120" cy="3068640"/>
          </a:xfrm>
        </p:grpSpPr>
        <p:pic>
          <p:nvPicPr>
            <p:cNvPr id="202" name="" descr=""/>
            <p:cNvPicPr/>
            <p:nvPr/>
          </p:nvPicPr>
          <p:blipFill>
            <a:blip r:embed="rId1"/>
            <a:stretch/>
          </p:blipFill>
          <p:spPr>
            <a:xfrm>
              <a:off x="2268360" y="3789360"/>
              <a:ext cx="3176640" cy="306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2"/>
            <a:stretch/>
          </p:blipFill>
          <p:spPr>
            <a:xfrm>
              <a:off x="5435640" y="3790800"/>
              <a:ext cx="3066840" cy="306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55640" y="460440"/>
            <a:ext cx="7920000" cy="6397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68360" y="404640"/>
            <a:ext cx="2448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讨论：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79280" y="1700280"/>
            <a:ext cx="8353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1</a:t>
            </a:r>
            <a:r>
              <a:rPr b="0" lang="zh-CN" sz="3200" spc="1" strike="noStrike">
                <a:ln w="0">
                  <a:noFill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、这两组面包中，哪一块面包上的霉菌生长得快？</a:t>
            </a:r>
            <a:endParaRPr b="0" lang="en-US" sz="3200" spc="1" strike="noStrike">
              <a:ln w="0">
                <a:noFill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79280" y="3213000"/>
            <a:ext cx="7056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2</a:t>
            </a:r>
            <a:r>
              <a:rPr b="0" lang="zh-CN" sz="1800" spc="1" strike="noStrike">
                <a:ln w="0">
                  <a:noFill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、研究光对霉菌生长的影响</a:t>
            </a:r>
            <a:endParaRPr b="0" lang="en-US" sz="1800" spc="1" strike="noStrike">
              <a:ln w="0">
                <a:noFill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8" name=""/>
          <p:cNvSpPr/>
          <p:nvPr/>
        </p:nvSpPr>
        <p:spPr>
          <a:xfrm>
            <a:off x="250920" y="54450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面包等食物放久了有的要长</a:t>
            </a:r>
            <a:r>
              <a:rPr b="1" lang="zh-CN" sz="3600" spc="-1" strike="noStrike">
                <a:solidFill>
                  <a:srgbClr val="000099"/>
                </a:solidFill>
                <a:latin typeface="华文新魏"/>
                <a:ea typeface="华文新魏"/>
              </a:rPr>
              <a:t>霉菌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，霉菌生长需要</a:t>
            </a:r>
            <a:r>
              <a:rPr b="1" lang="zh-CN" sz="3600" spc="-1" strike="noStrike">
                <a:solidFill>
                  <a:srgbClr val="000099"/>
                </a:solidFill>
                <a:latin typeface="华文新魏"/>
                <a:ea typeface="华文新魏"/>
              </a:rPr>
              <a:t>湿润、温暖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的环境，也需要获取</a:t>
            </a:r>
            <a:r>
              <a:rPr b="1" lang="zh-CN" sz="3600" spc="-1" strike="noStrike">
                <a:solidFill>
                  <a:srgbClr val="000099"/>
                </a:solidFill>
                <a:latin typeface="华文新魏"/>
                <a:ea typeface="华文新魏"/>
              </a:rPr>
              <a:t>营养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。</a:t>
            </a:r>
            <a:r>
              <a:rPr b="1" lang="zh-CN" sz="3600" spc="-1" strike="noStrike">
                <a:solidFill>
                  <a:srgbClr val="ffff00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003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258920" y="260280"/>
            <a:ext cx="2376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考考你</a:t>
            </a:r>
            <a:endParaRPr b="1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57160" cy="18748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332000" y="3933720"/>
            <a:ext cx="7667640" cy="1618560"/>
          </a:xfrm>
          <a:prstGeom prst="rect">
            <a:avLst/>
          </a:prstGeom>
          <a:solidFill>
            <a:srgbClr val="1ebde1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判断题</a:t>
            </a:r>
            <a:endParaRPr b="0" lang="en-US" sz="2000" spc="-1" strike="noStrike">
              <a:solidFill>
                <a:srgbClr val="00003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1</a:t>
            </a:r>
            <a:r>
              <a:rPr b="1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、食物在保存的过程中也会发生变化。（        ）</a:t>
            </a:r>
            <a:endParaRPr b="0" lang="en-US" sz="2000" spc="-1" strike="noStrike">
              <a:solidFill>
                <a:srgbClr val="00003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2</a:t>
            </a:r>
            <a:r>
              <a:rPr b="1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、食物在霉变过程中产生的霉菌含有对人体有害的物质。（       ）</a:t>
            </a:r>
            <a:endParaRPr b="0" lang="en-US" sz="2000" spc="-1" strike="noStrike">
              <a:solidFill>
                <a:srgbClr val="00003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3</a:t>
            </a:r>
            <a:r>
              <a:rPr b="1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、已经发霉的食物，扔掉可惜，洗一洗就可以吃了。（        ）</a:t>
            </a:r>
            <a:endParaRPr b="0" lang="en-US" sz="2000" spc="-1" strike="noStrike">
              <a:solidFill>
                <a:srgbClr val="00003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4</a:t>
            </a:r>
            <a:r>
              <a:rPr b="1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、我们把第一块面包放在干燥、常温的地方，把第二块面包放在潮湿常温的地方，是为了研究水分对霉菌生长速度的影响。（</a:t>
            </a:r>
            <a:r>
              <a:rPr b="0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       ）</a:t>
            </a:r>
            <a:endParaRPr b="0" lang="en-US" sz="20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58920" y="1341360"/>
            <a:ext cx="7885080" cy="1130400"/>
          </a:xfrm>
          <a:prstGeom prst="rect">
            <a:avLst/>
          </a:prstGeom>
          <a:solidFill>
            <a:srgbClr val="1ebde1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填空：</a:t>
            </a:r>
            <a:endParaRPr b="0" lang="en-US" sz="2800" spc="-1" strike="noStrike">
              <a:solidFill>
                <a:srgbClr val="00003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面包发霉是因为在它的上面生长了一种生物——（     ），与其他生物一样，它的生长需要获取（      ）和适宜的（         ）。因为霉变过程中产生的（         ）含有对人体有害的物质，所以发霉变质的食物是绝对（      ）食用的。</a:t>
            </a:r>
            <a:endParaRPr b="0" lang="en-US" sz="2000" spc="-1" strike="noStrike">
              <a:solidFill>
                <a:srgbClr val="00003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1116000" y="1268280"/>
            <a:ext cx="738036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想一想，除了面包以外，还有哪些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食物在存放过程中会变质？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3:24:56Z</dcterms:created>
  <dc:creator>雨林木风</dc:creator>
  <dc:description/>
  <dc:language>en-US</dc:language>
  <cp:lastModifiedBy>微软用户</cp:lastModifiedBy>
  <dcterms:modified xsi:type="dcterms:W3CDTF">2010-02-19T10:24:44Z</dcterms:modified>
  <cp:revision>11</cp:revision>
  <dc:subject/>
  <dc:title>幻灯片 1</dc:title>
</cp:coreProperties>
</file>